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1B9-B6DE-430E-B6E1-7BF9C636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197-2CD9-4748-84FB-ADC6F568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BD1-FE26-455A-BC87-7B93CB3F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EEE-DE53-4911-A480-23B57D23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DA6-B818-4819-87C1-8427913F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332-B43B-47A8-9130-B4B1D974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B81-22D7-406A-B6FB-85902C6E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9CE-DBC8-4EBD-A191-B017960A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512-3DF2-4427-B3F5-E6A98BD3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FBF-11DB-4C75-BB40-008E5EAB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B0B-4766-43AE-B340-9D1D0384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1F1-B5BD-4A3F-BF88-641FFA0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B04C-271C-4F01-B024-851E805BA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4:49:41Z</dcterms:created>
  <dc:creator>abeason</dc:creator>
  <dc:description/>
  <dc:language>en-US</dc:language>
  <cp:lastModifiedBy>abeason</cp:lastModifiedBy>
  <dcterms:modified xsi:type="dcterms:W3CDTF">2010-03-10T14:49:46Z</dcterms:modified>
  <cp:revision>1</cp:revision>
  <dc:subject/>
  <dc:title>Slide 1</dc:title>
</cp:coreProperties>
</file>